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3A2-EB1E-41B1-8C18-78394506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B32-CA7D-4AEC-B14C-7EBEF108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B91-69AA-4137-A7E8-78DFE1C0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C76-0CAB-4668-8453-5528A92B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AB12-15B6-4CCF-9337-88E6FF17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5852-1D74-4368-8256-195BA254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76E9-72B9-48C8-929A-0174D802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A2D7-9841-42BD-A131-FD56888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76DF-7316-4C74-AD79-EC43FCAC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CD4-3B5D-48D1-8C26-9E7583D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EF19-F8CC-4FDF-A853-EC2A9AFA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CE9-84D1-486A-B7B8-0A4013FF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688B-AE68-4AF0-BED8-9FE6B09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69F9-6FC9-43B8-9221-2B581AF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D2E0-EDBF-4AA9-A074-7AA23F44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03C1-48CB-4760-837D-D561A7B1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D7CA-F668-41EA-9C0D-2FA41B3B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B645-3855-4F58-A6F2-DBFD560A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DF5B-AAD8-4345-BFA1-D5F26C63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3FA7-09DD-4AE6-940B-2AC0D449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148B-4ACD-4E02-8840-B54D1569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0F50-DADA-4C3E-8E19-89F33C34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B5C-90F1-404B-ADC5-7F771859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89B8-6D4C-4E36-8DC8-0C228DC0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7D61-E7B3-4591-B22B-C272E4BB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3448-612D-4A53-B189-6FDC212F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4DE3-0BEA-4B42-B897-BBCB79F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FBA6-54A2-4E53-984A-A12BD85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1CE1-2D7C-4DE1-9700-720F8490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7119-7D71-411A-90A0-FF9FBECB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A2C5-9D9B-4786-9B52-0D22E1C7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5D63-6D11-4A85-99CD-5F289B9E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AD40E-CF92-4A68-A78B-E955EBF7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B25-166D-46D2-8F04-0F08C41B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590D-0640-4AA3-B1A4-9FA5A632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8E52-38D4-4E5A-B1EA-B0465A1F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AFB1-A6F0-4C5F-B474-39D60F89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5DB7D-E5B8-495C-9376-53939FCB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9280-7AAB-464D-A0D6-1635FBE3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DEAF0-747C-480B-A217-4DAA8FA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BAC1-8580-45F7-9C3C-19ED4AD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251F-D70B-4E3B-A397-0B8B4512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0616-5D3D-4027-B98C-7FF64D16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D1F-7049-4636-B42A-8321FEA1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D39-BCCD-4916-9497-825A1C2B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9B2-30D0-43BF-89DA-E1700E49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1A6-43DF-44C9-9176-DE0FEEC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71E-75B2-4C41-B80F-30289EB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7B81-FBE3-4C7A-85D3-6AF14F536383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291B-6A1A-48C2-97B7-6E492C731C64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88C-6A66-46BD-B5D3-90647AC74B94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9875-6B2F-4CC0-B86F-3A47238DA04E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8070840" cy="1933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nstantia"/>
              </a:rPr>
              <a:t>Language promotion idea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467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Submission writ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clude release for planning, and evaluat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Be clear about your proj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ink project to student learning outco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Don’t be too ambitious. Make sure it is attaina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ry and involve as many staff members as possible in the proj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How will your project be sustained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hone and talk through ide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scus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How do you promote languages in your school? Are these strategies work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How do you encourage students to choose languages at subject selection ti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hat role does the Careers Advisor play in promoting languages at your schoo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Why learn a Languag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97000"/>
            <a:ext cx="746748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Assists in developing literacy skill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Teaching literacy in Languages in Year 7 bookle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mproves cognitive abilit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Fosters intercultural understandi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University incentive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Better career prospect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Another string to their bow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Plus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’s fu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 will set you apart from the res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 allows you to communicate with more girls/more boy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 is sexy!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 is impressive!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Constantia"/>
              </a:rPr>
              <a:t>Advocacy resources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AIS languages websi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http://www.aisnsw.edu.au/Services/PL/LanguagesSecondary/pages/default.aspx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What are the incentives for learning/continuing a languag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2276640"/>
            <a:ext cx="7540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inking in with Univers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Recognised by Universities – Students receive bonus points if they score Band 5 or 6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www.go8.edu.au/__documents/university-staff/agreements/go8_lote_incentive_schemes.pd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EF MY Future resource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www.myfuture.edu.au/asiaski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EF programs -  Ambassad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Guest speakers on Assembly – Ex- students, business community, NG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Key person – Careers Advis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3"/>
          <p:cNvSpPr/>
          <p:nvPr/>
        </p:nvSpPr>
        <p:spPr>
          <a:xfrm flipV="1" rot="10800000">
            <a:off x="457200" y="158004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f6fc6"/>
                </a:solidFill>
                <a:latin typeface="Century Schoolbook"/>
              </a:rPr>
              <a:t>Opportunities beyon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Strategies</a:t>
            </a:r>
            <a:br>
              <a:rPr sz="4500"/>
            </a:br>
            <a:r>
              <a:rPr b="0" lang="en-AU" sz="2400" spc="-1" strike="noStrike">
                <a:solidFill>
                  <a:srgbClr val="0f6fc6"/>
                </a:solidFill>
                <a:latin typeface="Calibri"/>
              </a:rPr>
              <a:t>Language days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966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arget Yr8 and Yr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romote it well, photos, video et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Collaborate with other schools- primary and secondary, boys and gir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inking in with Univers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Ex students, guest speakers from Universities, business community to talk at assemb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clude all languages in school commun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isten to students’ sto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4617b"/>
                </a:solidFill>
                <a:latin typeface="Calibri"/>
              </a:rPr>
              <a:t>Language days…more idea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Involve par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Involve other departments (HSIE, RE, JS, Music, Art, IT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Students MC special assembly in languages taugh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Survey school population on languages spoken etc (Senior research project for Geography/Society &amp; culture etc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Present research at school assembl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Raise money for char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Prayers in different  languag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f6fc6"/>
                </a:solidFill>
                <a:latin typeface="Calibri"/>
              </a:rPr>
              <a:t>Whole school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Devise cross-curriculum Units of wor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Offer your expertise to other facul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Utilise staff/parent/student experti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Involve NSA in life of whole schoo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Involvement in external competi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MLTA Film competi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lliance, Japan Foundation competi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cholarship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rt gallery of NS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C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OZC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ister school collabor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Cross KLA involvement in Languages D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Disseminate information widel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igns in Language around schoo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95280" y="41497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f6fc6"/>
                </a:solidFill>
                <a:latin typeface="Calibri"/>
              </a:rPr>
              <a:t>Promoting Languages at faculty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000" y="1052640"/>
            <a:ext cx="746748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Consistent terminolog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Use of ‘Languages’ rather than LO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Promotion of progression and achiev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Easy to read programs on school portal for pare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Goals for each topic in student boo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tudent checklists at end of each top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Faculty-based achievement certifica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Languages and literacy polic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Subject choice evening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One page content planner showing progression and continuity of language learning in your schoo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how parents the level language students reach by Yr 12(sample text, sample HSC paper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Articles in school newsletter, School magazine, End of year repo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Languages Newsletter </a:t>
            </a: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(once or twice a year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Languages Noticeboar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f6fc6"/>
                </a:solidFill>
                <a:latin typeface="Calibri"/>
              </a:rPr>
              <a:t>Effective use of Grant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341360"/>
            <a:ext cx="746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1. School language program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rogram writing, resource developmen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tegrating IT, IT hardware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eacher release, PD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collaboration with other schoo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specialist teacher salarie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development of Languages newsletter, DVD in language promoting your schoo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2. Parental polyglot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volving parent community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dvertise widely, take photo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use evaluations for language promo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3. Lifting Languag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anguages D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curs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anguages newslet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website, port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collaboration with other schoo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4. Authentic Access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- Native speaker assist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volved with as many classes as possi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troduced to staf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terview with NSA in school newslet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5. Meaningful mentoring -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supporting new teach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extending experienced teach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6. Enabling Electives –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Stage 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commitment from princip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sustaina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09:59Z</dcterms:created>
  <dc:creator>Merryl</dc:creator>
  <dc:description/>
  <dc:language>en-US</dc:language>
  <cp:lastModifiedBy>Merryl</cp:lastModifiedBy>
  <dcterms:modified xsi:type="dcterms:W3CDTF">2012-09-06T23:03:44Z</dcterms:modified>
  <cp:revision>46</cp:revision>
  <dc:subject/>
  <dc:title>Indonesian- A Priority language</dc:title>
</cp:coreProperties>
</file>